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702-7589-43E6-976F-923CEAD0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D8F-B732-43CE-8F31-917DDA8B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66A-916E-4FF6-98F0-BAA974DC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FAF-F838-4FE7-80A2-F63131A6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FDB-36FD-412E-83FB-D4ADE269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68A-FD0D-40DF-B152-0935C1FF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1C4-0593-4E97-9D17-404987E9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787-15B5-46B4-B863-B300622F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DB4-194A-4210-A9E2-D6677D2E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BAA-C5A0-44B7-9F36-43F2F2E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61B-1C1A-4896-815E-3670669A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DF3-D1DA-49C9-9A76-A79EFD1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5B4B-88CC-43E1-AC27-40FE015BD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youtsparks.com/1/103774/mystery-of-the-aztecs-1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quistadors and the Nativ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atrick K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ystery of the aztecs picture and 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1981080" cy="143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16765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youtsparks.com/pictures/aztecs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057400" cy="191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60958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s.pelicanpart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olytheistic (Believed in many Go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ived in now what’s called 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apital was Tenochtitlan which was built on a l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hought Cortez was their God, Quetzalcoat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eader (Montezuma) welcomed Cort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Used human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ontezuma was held hostage, then was killed in a f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4648320" cy="245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1080" y="632448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ergriscaye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3352680" cy="232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72200" y="297180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ived on Yucatan Peninsula in 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ultiple Major c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arder to overthrow (Many major c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ad slaves (Other trib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olytheis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Not much Gold in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724640" cy="36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640080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2012discov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047760" cy="1579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56386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ancountdown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ived in Andes Mountains, in the area now called Pe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apital was Cuz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olythe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No writte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racticed animal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ometimes sacrificed kids (Don’t try this at home parents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asily taken over (Because they were in the middle of a civil w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aving a civil war (war between to groups from the same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dn’t value Gold and Sil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he Spaniards captured the Inca leader (Athualpa), held him for ransom, baptized him then killed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3124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americanstudie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2361960" cy="210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00600" y="64008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quistador (Means To Conquer)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eld Athualpa (Inca leader) for ransom, baptized him, then when the Incas brought the Gold and Silver, they killed Atahual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asily conquered the Incas because the were in the middle of a civil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aveled with 180 men and 27 horses to conquer In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aveled with de S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323856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64771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nabee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05520" y="63244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co-pizarro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(Can be spelt Cor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aveled with 500 men and 16 horses to conquer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Other tribes helped Cortez because they didn’t like the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rtez was mistaken for an Aztec God, Quetzalcoatl, and he acted friendly until he turned on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he Spanish retreated, then returned, and then w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rtez took Montezuma (Aztec leader) captive, then he was killed in the following ba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estroyed Tenochtitlan, and built a new city called Mexico City, that still remains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2095560" cy="2447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3200" y="6545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400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and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uilt new cities and converted the natives’ relig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ere do we see the lasting effect of these conquistadors even in 2011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w cities, like Mexico City, that were built back then, and still last today.  Also a majority of South America speak Spanish to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42084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62485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inside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50:08Z</dcterms:created>
  <dc:creator>jklib</dc:creator>
  <dc:description/>
  <dc:language>en-US</dc:language>
  <cp:lastModifiedBy>JKlib</cp:lastModifiedBy>
  <dcterms:modified xsi:type="dcterms:W3CDTF">2011-11-28T15:58:32Z</dcterms:modified>
  <cp:revision>5</cp:revision>
  <dc:subject/>
  <dc:title>The Conquistadors and the Native Indians</dc:title>
</cp:coreProperties>
</file>